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EBA-27E3-4A34-B899-35713891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AA7-6811-4FE2-A583-E5AE87B9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6A1-5AB9-4E8A-B7B8-7A130D6E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BE0-3A0C-451E-AE71-B00F8C4D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A5E-B31B-462A-88A2-B6831937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895-1995-4421-9181-237C4BA6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B17-E6F1-4C8E-9141-3D41A93A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9F8-032C-4063-8D68-98CE90E2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120-5E36-4D83-926B-ACF9BADA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D65-D908-4D9B-AC03-5C1704F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F49-20C8-4C68-A87D-5356854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BBD-CE54-41AA-ADA6-AFB7B804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1ABC-5EF2-463E-8F60-1177C34D3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web.mit.edu/invent/iow/naismith.html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16640" y="180324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838080" y="-9360"/>
            <a:ext cx="982980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09480" y="304920"/>
            <a:ext cx="7419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asket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3240" y="3110040"/>
            <a:ext cx="26575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403848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h O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51320" y="585936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588960" cy="1138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229600" y="1981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-83808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83808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-83808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951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514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44000" cy="975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Naismith"/>
          <p:cNvPicPr/>
          <p:nvPr/>
        </p:nvPicPr>
        <p:blipFill>
          <a:blip r:embed="rId2"/>
          <a:srcRect l="0" t="0" r="74173" b="0"/>
          <a:stretch/>
        </p:blipFill>
        <p:spPr>
          <a:xfrm>
            <a:off x="0" y="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791320"/>
            <a:ext cx="7924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ketball (Gam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eb 23,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naismit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Naismith invented the game baske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Naismith"/>
          <p:cNvPicPr/>
          <p:nvPr/>
        </p:nvPicPr>
        <p:blipFill>
          <a:blip r:embed="rId4"/>
          <a:srcRect l="46667" t="0" r="0" b="0"/>
          <a:stretch/>
        </p:blipFill>
        <p:spPr>
          <a:xfrm>
            <a:off x="4572000" y="3441600"/>
            <a:ext cx="4572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2092320"/>
            <a:ext cx="1245708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ketball (Ga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official basketball arrived in19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6 basketball became an Olympic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men's professional basketball league was established in1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stimated 300 million people played the sport basketball world wide just i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first the game basketball was with a soccer ball and a peach basket, eventually they put a hole at the bottom of the peach basket so they didn’t have to climb up to get the ball every time someone sc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9144000" cy="9753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ames Nai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was born on November 6, 18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ed on November 28, 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nd his three siblings were orphaned when both parents died of typhoid fever in 18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n a gold and silver medal for “Best All-Around Athlete in 1885 and 18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continued his education, studying theology at Presbyterian awarded him with his Master of Divinity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37:53Z</dcterms:created>
  <dc:creator>install</dc:creator>
  <dc:description/>
  <dc:language>en-US</dc:language>
  <cp:lastModifiedBy>install</cp:lastModifiedBy>
  <dcterms:modified xsi:type="dcterms:W3CDTF">2012-03-09T15:13:15Z</dcterms:modified>
  <cp:revision>8</cp:revision>
  <dc:subject/>
  <dc:title>Slide 1</dc:title>
</cp:coreProperties>
</file>